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391-1A14-45AF-A6A8-F04EE5BC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B25-75FB-4B4E-B9AC-5E459466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DBE-2A46-47AB-9D58-05195AB3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319-6353-4554-B326-EBC3518E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BBE-F84B-453D-AD47-F2D3AD8B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AA91-0AB5-45B3-9D2B-5FB18F614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264-7D72-4D7E-B749-A8137D7B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81BA-587F-4F85-87D6-BD769B3B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41BA-92AF-4CFE-8DA8-3A7A3223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FFF-5A5F-4145-8572-EA8CF25C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3A6-57C0-43A9-A493-25F66A58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C149-043B-4FCC-939D-F84D2565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D77-855F-4BF8-8793-116B6C25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08E5-95A8-4856-9EE7-23BD0CDE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B29-8E00-41CF-B5C5-623B7839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55C-34A9-4BD3-8D87-CEFBB3CF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22B-5D9F-4879-B0B8-022567BD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FE6F-4DC1-49E1-BC24-6FAAA1FC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D7A-A370-4E88-B873-CC8D4424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BE6-5395-4E54-BBDF-AF3FBCB89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497-A266-4AB7-97B2-40024026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AAE-3A41-4B30-A3AD-CF9DF1F2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16F-DDA9-4DC4-BE80-A11BE8FD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DCD-C8F2-468C-ABE6-E82D97CA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5EE4-B9A3-4011-AFF6-A82329243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139-ED75-4D9C-BAAA-BDF67992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AEC0-7FEE-42BA-A5B3-4B5B925C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433-675B-4FE4-ADB4-C6D32C74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3" descr="C:\Users\Sedgwick\AppData\Local\Microsoft\Windows\Temporary Internet Files\Content.IE5\TOVYX0VK\MC900445930[1].wmf"/>
          <p:cNvPicPr/>
          <p:nvPr/>
        </p:nvPicPr>
        <p:blipFill>
          <a:blip r:embed="rId6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3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14300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Meadows Elementary</cp:lastModifiedBy>
  <dcterms:modified xsi:type="dcterms:W3CDTF">2013-02-19T14:45:24Z</dcterms:modified>
  <cp:revision>93</cp:revision>
  <dc:subject>Keyboarding</dc:subject>
  <dc:title>Kindergarten Adventures in Keyboarding</dc:title>
</cp:coreProperties>
</file>